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25B-10C2-4CD4-94E5-2EA886E5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12A-5DD2-40A5-9D92-34FBB93A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74B-19D4-4192-84A7-B38B132B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9233-7EBF-4C26-95CC-9D248A38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638-9F8A-4E2E-9DED-67C78DD3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30B-7985-4D13-A12E-A85E28E8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6B3-2215-4A11-98E3-01D5E0BC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9F9-05E5-4BFA-9DF9-A483A1F5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4C8-8584-4D77-8CEA-DB0E6FB0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9F6-D925-4046-A17D-4881BD49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F1A-F170-4D44-BAB4-9292443C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2F9-615A-456F-A467-629FBE36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2F80-D4E4-4B78-98D0-EFD1A3556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MA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1125000"/>
            <a:ext cx="64008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NVENIOS COL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060640"/>
            <a:ext cx="7488000" cy="41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GOCIACIÓN COL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NIDO DE LOS CONVENIOS COLEC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ÁMBITO DE LOS CONVENIOS COL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ITIMACIÓN PARA NEGO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MITACIÓN DE LOS CONVENIOS COL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ACIÓN DE LOS CONVENIOS COLE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HESIÓN Y EXTENSIÓN DE LOS CONVEN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16000" y="476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ÁUSULA DE DESCUELGUE SALA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1844640"/>
            <a:ext cx="89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333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HESIÓN Y EXTENSIÓN DE LOS CONVENI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052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convenio puede aplicarse a trabajadores no incluidos en una negociación, medi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3141720"/>
            <a:ext cx="4176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s partes legitimadas para negociar un convenio propio pueden adherirse, de común acuerdo, a la totalidad de un convenio colectivo en vigor, siempre que no estén afectadas por u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897560"/>
            <a:ext cx="3311280" cy="963360"/>
          </a:xfrm>
          <a:prstGeom prst="downArrowCallout">
            <a:avLst>
              <a:gd name="adj1" fmla="val 85938"/>
              <a:gd name="adj2" fmla="val 8593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Adhesión voluntaria a un conve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030760"/>
            <a:ext cx="3311640" cy="552600"/>
          </a:xfrm>
          <a:prstGeom prst="downArrowCallout">
            <a:avLst>
              <a:gd name="adj1" fmla="val 149835"/>
              <a:gd name="adj2" fmla="val 149821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Extensión de un conve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997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Ministerio de Trabajo puede extender las disposiciones de un convenio colectivo en vigor a determinadas empresas y trabajadores siempre que existan dificultades para negociar su convenio, o cuando se den circunstancias sociales y económicas importa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66100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adhesión ha de comunicarse a la autoridad laboral competente para que proceda a su registro, es decir, el Ministerio de Trabajo e inmigración, o el órgano correspondiente a la comunidad autón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03280" y="260280"/>
            <a:ext cx="712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OCIACIÓN COLE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765000"/>
            <a:ext cx="8642520" cy="39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onstitución española en su Art. 37.1 dice “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a ley garantizará el derecho a la negociación colectiva laboral entre los representantes de los trabajadores y empresarios, así como la fuerza vinculante de los conven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Estatuto de los Trabajadores (ET) ha desarrollado la negociación colectiva para garantizar  que los empresarios y trabajadores regulen las condiciones de trabajo y de productividad; igualmente la paz laboral a través de las obligaciones que se pacten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fine el convenio colectiv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o un acuerdo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escrito libremente negociado entre los representantes de los trabajadores y empresarios para regular las condiciones de trabajo y las normas de convivencia laboral en las empres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5705640"/>
            <a:ext cx="5905440" cy="1152360"/>
          </a:xfrm>
          <a:prstGeom prst="downArrowCallout">
            <a:avLst>
              <a:gd name="adj1" fmla="val 128128"/>
              <a:gd name="adj2" fmla="val 128116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regulan las siguientes mater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65300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 Convenios Colectivos son vinculantes para las partes y las condiciones pactadas no podrán ser modificadas por contrato individual, salvo para mejorar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2496600"/>
            <a:ext cx="17640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MB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260280"/>
            <a:ext cx="1800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51640" y="189000"/>
            <a:ext cx="2950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rios princip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1557360"/>
            <a:ext cx="180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90792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orn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an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teg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de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00360" y="3068640"/>
            <a:ext cx="180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2997360"/>
            <a:ext cx="30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Órganos de repres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38606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ció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esgos Lab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37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os preven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5084640"/>
            <a:ext cx="1800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sten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5013360"/>
            <a:ext cx="3024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as volun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6165720"/>
            <a:ext cx="1800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5734080"/>
            <a:ext cx="3240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das de pro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igaciones dirigid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la paz labo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404640"/>
            <a:ext cx="0" cy="604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40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1773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321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3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68360" y="530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645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404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177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3284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59280" y="4221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530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6308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979640" y="321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565360"/>
            <a:ext cx="172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LOS CONVENIOS COLEC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119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549360"/>
            <a:ext cx="28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áusulas que regulan el convenio en sentido general y su cumplimiento es obligatorio para ambas par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43640" y="476280"/>
            <a:ext cx="29527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dicio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sificación de puest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l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orn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uridad e Hi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4797360"/>
            <a:ext cx="187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L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48000" y="4724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áusulas que aseguran el cumplimiento del conve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64360" y="4508640"/>
            <a:ext cx="2879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dimientos de denu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rantizar la paz laboral al renunciar los trabajadores al derecho a la huelg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549360"/>
            <a:ext cx="504720" cy="5975280"/>
          </a:xfrm>
          <a:custGeom>
            <a:avLst/>
            <a:gdLst>
              <a:gd name="textAreaLeft" fmla="*/ 322560 w 504720"/>
              <a:gd name="textAreaRight" fmla="*/ 505080 w 504720"/>
              <a:gd name="textAreaTop" fmla="*/ 155520 h 5975280"/>
              <a:gd name="textAreaBottom" fmla="*/ 5819760 h 597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3640" y="549360"/>
            <a:ext cx="73080" cy="3311280"/>
          </a:xfrm>
          <a:custGeom>
            <a:avLst/>
            <a:gdLst>
              <a:gd name="textAreaLeft" fmla="*/ 46800 w 73080"/>
              <a:gd name="textAreaRight" fmla="*/ 73440 w 73080"/>
              <a:gd name="textAreaTop" fmla="*/ 86040 h 3311280"/>
              <a:gd name="textAreaBottom" fmla="*/ 3225240 h 33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476280"/>
            <a:ext cx="361800" cy="3384360"/>
          </a:xfrm>
          <a:custGeom>
            <a:avLst/>
            <a:gdLst>
              <a:gd name="textAreaLeft" fmla="*/ 231120 w 361800"/>
              <a:gd name="textAreaRight" fmla="*/ 362160 w 36180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22"/>
                </a:lnTo>
                <a:cubicBezTo>
                  <a:pt x="10800" y="10022"/>
                  <a:pt x="5400" y="10922"/>
                  <a:pt x="0" y="10922"/>
                </a:cubicBezTo>
                <a:cubicBezTo>
                  <a:pt x="5400" y="10922"/>
                  <a:pt x="10800" y="11822"/>
                  <a:pt x="10800" y="127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4365720"/>
            <a:ext cx="360360" cy="1727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23"/>
                </a:lnTo>
                <a:cubicBezTo>
                  <a:pt x="10800" y="9523"/>
                  <a:pt x="5400" y="10423"/>
                  <a:pt x="0" y="10423"/>
                </a:cubicBezTo>
                <a:cubicBezTo>
                  <a:pt x="5400" y="10423"/>
                  <a:pt x="10800" y="11323"/>
                  <a:pt x="10800" y="122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4437000"/>
            <a:ext cx="360360" cy="18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ENIDO DE LOS CONVENIOS COLECTIV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349360"/>
            <a:ext cx="28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contenido normativo es fuente de derecho del trabajo y su cumplimiento es obligatorio para ambas pa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11280" y="404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ET establece que los convenios colectivos deben tener el contenido mínim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484280"/>
            <a:ext cx="7777440" cy="48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ar las partes que lo conciertan (representantes de los trabajadores y empresar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jar el ámbito personal, funcional, territorial y temp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ar cuáles son las condiciones y procedimientos que se deben seguir en caso de empresas incluidas en el convenio (de ámbito superior a la empresa) para la no aplicación del régimen salar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mas y condiciones de la denuncia del convenio, como plazo de preavi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ación de una comisión paritaria de representación de las partes para resolver cualquier cuest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ar los procedimientos para resolver las discrepancias de la comisión parit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26920" y="189000"/>
            <a:ext cx="73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MBITO DE LOS CONVENIOS COL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907920"/>
            <a:ext cx="882000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Ámbito pers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Los convenios obligan a todos los empresarios y trabajadores de la rama profesional o sector económico al que pertenecen las empresas que negocian el conven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 embargo, pueden celebrarse convenios para determinados trabajadores como, por ejemplo, especialistas en una determinada materia, directivos, etc., estos convenios se denominan CONVENIOS FRAN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Ámbito territorial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Hace referencia a la extensión geográfica del convenio por ejemplo, convenios Nacionales, de Comunidad Autónoma, Interprovincial, provincial y loc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Ámbito funcional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e refiere a la actividad económica a la que se dedican las empresas de un determinado ámbito territorial, Ejemplo: Convenio funcional de la Banca, Convenio Comercio Minorista en Andalucía, Convenio de Hostelería de Mála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Ámbito temporal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e  refiere al periodo de vigencia del convenio. Las partes negociadoras están capacitadas para fijar la vigencia de cada conven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71640" y="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ITIMACIÓN PARA NEGO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05680"/>
            <a:ext cx="2916360" cy="2014560"/>
          </a:xfrm>
          <a:prstGeom prst="rightArrowCallout">
            <a:avLst>
              <a:gd name="adj1" fmla="val 25002"/>
              <a:gd name="adj2" fmla="val 15153"/>
              <a:gd name="adj3" fmla="val 24127"/>
              <a:gd name="adj4" fmla="val 78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VENIOS DE EMPRESA O ÁMBITO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nº de representantes es de 12 máximo por cada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404640"/>
            <a:ext cx="6084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R PARTE DE LOS TRABAJ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ité de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legados de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ciones Sindi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R PARTE DEL EMPRES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empresario o representantes leg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780360"/>
            <a:ext cx="2916360" cy="2014560"/>
          </a:xfrm>
          <a:prstGeom prst="rightArrowCallout">
            <a:avLst>
              <a:gd name="adj1" fmla="val 25002"/>
              <a:gd name="adj2" fmla="val 15153"/>
              <a:gd name="adj3" fmla="val 24127"/>
              <a:gd name="adj4" fmla="val 78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VENIOS DE ÁMBITO SUPERIOR A LA EMRP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nº de representantes es de 15 máximo por cada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2932560"/>
            <a:ext cx="6084720" cy="378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R PARTE DE LOS TRABAJ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dicatos más representativos a nivel est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dicatos más representativos de Comunidad Autón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 sindicatos que cuenten con un mínimo del 10% de los miembros del comité de empresa o delegados de personal en el ámbito geográfico y funcional del conven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R PARTE DEL EMPRES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s asociaciones empresariales en el ámbito geográfico y funcional del convenio cuenten con un mínimo del 10% de los empresarios y siempre que den ocupación a igual porcentaje de trabaja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260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MITACIÓN DE LOS CONVENIOS COL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97000"/>
            <a:ext cx="194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GO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8000" y="765000"/>
            <a:ext cx="723600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a de las partes realiza una propuesta por escrito expresando los ámbitos del convenio y las materias objeto de la neg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envía una copia de la comunicación a la autoridad lab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puesta de la otra parte en el plazo de un m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5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GO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2852640"/>
            <a:ext cx="723600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egociación de buena 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cuerdos por mayoría de amba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no hay acuerdo se prorroga el contenido normativo del convenio anterior y pierde su vigencia el contenido obligac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724280"/>
            <a:ext cx="16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ISTR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ÓS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8000" y="4724280"/>
            <a:ext cx="72360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istro ante la autoridad laboral en el plazo de 15 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ósito Servicio de Mediación, Arbitraje y conciliación (SM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942160"/>
            <a:ext cx="18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ACIÓN Y  ENTRADA EN VIG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6078600"/>
            <a:ext cx="716436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ación en el BOE o en el Boletín Oficial de Provi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trada en vigor en la fecha que establezcan las par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333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RACIÓN DE LOS CONVENIOS COLE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1125360"/>
            <a:ext cx="896472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s partes negociadoras establecen la duración de los conve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puede pactar distintos periodos de vigencia para cada materia dentro del mismo convenio. Por ejemplo, la duración fijada para el convenio puede ser de 3 años, pero con una revisión anual de los salarios de acuerdo con IP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os convenios se puede establecer la denuncia automática. También se pueden establecer mínimos de preaviso para denunciar los conveni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alvo pacto en contra, los convenios colectivos se prorrogan de año en año si no media denuncia expresa de las par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a vez denunciado un convenio y hasta que no se logre acuerdo expreso, perderán vigencia las cláusulas obligacionales, es decir aquellas referidas a las obligaciones que asumen las partes para garantizar la eficacia  del convenio y la paz entre ellas, sin embargo, las cláusulas de contenido normativo se mantienen en vig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nuevo convenio deroga al anterior, salvo los pactos que expresamente se manteng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22:56:23Z</dcterms:created>
  <dc:creator>Acer Aspire</dc:creator>
  <dc:description/>
  <dc:language>en-US</dc:language>
  <cp:lastModifiedBy>Acer Aspire</cp:lastModifiedBy>
  <dcterms:modified xsi:type="dcterms:W3CDTF">2011-01-18T22:59:50Z</dcterms:modified>
  <cp:revision>13</cp:revision>
  <dc:subject/>
  <dc:title>TEMA 11</dc:title>
</cp:coreProperties>
</file>